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7687-6FDC-4A17-8C2E-2B4E5AF8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E6D3-F14B-4C12-99E5-1B4D7B08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F1D5-44D2-450F-B071-E8C59C52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DD8C-1889-4502-8462-D3C377E4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1019-3DE8-476A-9C0F-8DA74B82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98D5-6836-42D0-A104-0E200953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F3A1-77E3-40AA-91B5-0CB76EA0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BB11-4CF0-4A97-8DC6-DBFCA99D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C642-0F99-4921-B27A-B2CF7FD1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4AEC-529D-411E-8D26-7DE84224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3A9C-C252-4647-9D5F-745A2102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490-83D7-4282-A1A6-7021A4F2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1905-854C-45D1-ABC7-FB2ED252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5DD2-2C63-4CA7-85F2-76025092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BFDC-9A43-4431-8FB4-8D2018E6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1586-C670-4858-844D-AE3DAFB5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52A1-E28D-41A3-ACAE-AF5689A9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A5FF-24DE-45EB-A82F-8FB9814B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6A4B-3348-455F-AF84-88C5F2A8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2F01-2534-4B4E-BE37-642C33E0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1CBB-A25D-467F-879F-DA6FF8AD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7A73-947E-423D-9B53-E9A75A51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C55B-9E3B-493C-BCDB-C7B525A3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0F98-84D3-4B02-B7E9-DCAC088D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DF47-84A9-42B4-8BEF-1A6C3FB8E67F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e7030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6F9E-9503-4582-A9AF-75FEBFEEC2EC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  <a:ea typeface="Arial"/>
              </a:rPr>
              <a:t>The Important Book</a:t>
            </a:r>
            <a:br>
              <a:rPr sz="4800"/>
            </a:br>
            <a:r>
              <a:rPr b="0" lang="en-US" sz="1800" spc="-1" strike="noStrike">
                <a:solidFill>
                  <a:srgbClr val="0d469b"/>
                </a:solidFill>
                <a:latin typeface="Book Antiqua"/>
                <a:ea typeface="Arial"/>
              </a:rPr>
              <a:t>by Margaret Wise 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33720" y="1243080"/>
            <a:ext cx="30765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3080" y="1243080"/>
            <a:ext cx="305784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38400" y="1243080"/>
            <a:ext cx="30672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38400" y="1247760"/>
            <a:ext cx="30672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38400" y="1243080"/>
            <a:ext cx="30672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Peel District School Board</cp:lastModifiedBy>
  <dcterms:modified xsi:type="dcterms:W3CDTF">2009-07-17T15:21:25Z</dcterms:modified>
  <cp:revision>94</cp:revision>
  <dc:subject/>
  <dc:title>Slide 1</dc:title>
</cp:coreProperties>
</file>